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01C-E8AE-4F73-BE91-E9FDE81E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6DB-77FE-41F4-9197-91CCA626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C8C-EC92-4058-B0CA-75468C0D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D19-253C-4BA8-9F96-AD2C3989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A52-7531-41FF-9FD7-8939BD8F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E8D-D349-4900-B114-D1626076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D4C-EA36-48C2-B48A-532889E1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20A-8912-4AD1-BDEC-89CF7420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01E-54F9-4EAF-B27E-8AA975A4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1FD-0CE0-4768-B5DD-1CCAA06D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4CE-569D-4B2C-9F07-E641AD96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633-615C-4072-9E7B-627DA77E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4C75-0D52-42D3-A1A6-E8BAE113F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4s" descr=""/>
          <p:cNvPicPr/>
          <p:nvPr/>
        </p:nvPicPr>
        <p:blipFill>
          <a:blip r:embed="rId1"/>
          <a:stretch/>
        </p:blipFill>
        <p:spPr>
          <a:xfrm>
            <a:off x="-1143000" y="-4154400"/>
            <a:ext cx="11430000" cy="151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2:56:25Z</dcterms:created>
  <dc:creator>УМЦ</dc:creator>
  <dc:description/>
  <dc:language>en-US</dc:language>
  <cp:lastModifiedBy>УМЦ</cp:lastModifiedBy>
  <dcterms:modified xsi:type="dcterms:W3CDTF">2003-10-29T02:56:34Z</dcterms:modified>
  <cp:revision>1</cp:revision>
  <dc:subject/>
  <dc:title>Презентация PowerPoint</dc:title>
</cp:coreProperties>
</file>