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C998-7E27-469F-AFED-924132B4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C91-71B6-42AD-B4F2-E23AD724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29F-CF46-4038-ADA4-0EB95033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D73-F197-4583-919B-EDE7135D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FF0-D583-4BD8-99FD-A87B0D6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910-9C5F-4A09-A030-31E9D721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832-B3BB-4D77-9CDF-A1E88967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AAD-C8E1-4C2B-90E3-4731649E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F68-24B4-475C-BBE1-E7B912FD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CD6-6184-4AC1-80AB-F15A1FC3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923-AD56-429D-85FF-8E47396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62A-900D-4380-B974-0EF7DE3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5D97-4FF9-4986-8BC8-518B55BDD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5s" descr=""/>
          <p:cNvPicPr/>
          <p:nvPr/>
        </p:nvPicPr>
        <p:blipFill>
          <a:blip r:embed="rId1"/>
          <a:stretch/>
        </p:blipFill>
        <p:spPr>
          <a:xfrm>
            <a:off x="-1143000" y="-4148280"/>
            <a:ext cx="11430000" cy="15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2:57:03Z</dcterms:created>
  <dc:creator>УМЦ</dc:creator>
  <dc:description/>
  <dc:language>en-US</dc:language>
  <cp:lastModifiedBy>УМЦ</cp:lastModifiedBy>
  <dcterms:modified xsi:type="dcterms:W3CDTF">2003-10-29T02:57:12Z</dcterms:modified>
  <cp:revision>1</cp:revision>
  <dc:subject/>
  <dc:title>Презентация PowerPoint</dc:title>
</cp:coreProperties>
</file>