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39C-C1D0-429E-8A46-37CF269F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991-F69D-4C01-93B4-4B366FF6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A3D-85ED-4350-8714-D7FC6D4B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2FA-D113-48C0-A28D-292DE9EF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95F-9D4D-471D-BF6B-7559F1F6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E2D-9DC3-46D2-81EB-284987D6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C81-2BDB-4624-BB4A-5CF1B80B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500-AFD0-433F-8A08-C89447A8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510-632E-412E-A923-6F95CF89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147-AE88-419A-8C72-CDBDFD8A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FC6-5233-41B2-AFFE-40B97CC9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643-6990-411C-8DE8-FD5D342C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4475-3719-4718-AD94-8306B0461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11s" descr=""/>
          <p:cNvPicPr/>
          <p:nvPr/>
        </p:nvPicPr>
        <p:blipFill>
          <a:blip r:embed="rId1"/>
          <a:stretch/>
        </p:blipFill>
        <p:spPr>
          <a:xfrm>
            <a:off x="-1143000" y="-4137120"/>
            <a:ext cx="11430000" cy="151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3:01:06Z</dcterms:created>
  <dc:creator>УМЦ</dc:creator>
  <dc:description/>
  <dc:language>en-US</dc:language>
  <cp:lastModifiedBy>УМЦ</cp:lastModifiedBy>
  <dcterms:modified xsi:type="dcterms:W3CDTF">2003-10-29T03:01:14Z</dcterms:modified>
  <cp:revision>1</cp:revision>
  <dc:subject/>
  <dc:title>Презентация PowerPoint</dc:title>
</cp:coreProperties>
</file>