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3B3-8D0A-4278-A2CB-B727774E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85D-B1BA-4E1E-8617-5E248FB0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2B9-B9E5-46BF-A6C2-00EC743D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83A-CF90-4121-80C8-3A667F80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B94-0014-4A63-BEE5-3E880D90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A53-08F8-4959-B53B-D9089FF6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9B9-2C12-40A0-B2A6-57C691F4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702-48F2-4921-A68C-CC6676A3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38C-8D28-48E3-85BC-2AE8111F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F27-5D75-414C-ADA3-77729A93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FA9-2341-4245-84C9-1371D893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EEA-A0C2-42E5-8DF9-8CDDB0A2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397A-F9C0-4765-8AD5-C221CE604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7s" descr=""/>
          <p:cNvPicPr/>
          <p:nvPr/>
        </p:nvPicPr>
        <p:blipFill>
          <a:blip r:embed="rId1"/>
          <a:stretch/>
        </p:blipFill>
        <p:spPr>
          <a:xfrm>
            <a:off x="-1143000" y="-4125960"/>
            <a:ext cx="11430000" cy="151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2:58:32Z</dcterms:created>
  <dc:creator>УМЦ</dc:creator>
  <dc:description/>
  <dc:language>en-US</dc:language>
  <cp:lastModifiedBy>УМЦ</cp:lastModifiedBy>
  <dcterms:modified xsi:type="dcterms:W3CDTF">2003-10-29T02:58:41Z</dcterms:modified>
  <cp:revision>1</cp:revision>
  <dc:subject/>
  <dc:title>Презентация PowerPoint</dc:title>
</cp:coreProperties>
</file>