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631-966F-4E6A-B350-8F299F8B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980-0C25-4B30-96E0-A57F5103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3DB-77DD-4FFF-93FD-7E2311B6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52F-11D2-4B53-96A2-578DD548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586-75BC-4B18-9FD7-E2395DD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DFA-EC04-4401-BEF7-E1AED470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EDF-B37E-4CF3-B2BF-753A76DA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F9E-0053-4C1E-BD78-7C4B13E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543-4E1E-43F8-9C17-A38A79C9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5F6-7698-474F-8823-11DF4EE3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B19-BE6E-4B66-9334-D6F6470D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3D1-C95B-4C39-B81A-F431120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AABA-FC4E-475E-86C0-A72E35F62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6s" descr=""/>
          <p:cNvPicPr/>
          <p:nvPr/>
        </p:nvPicPr>
        <p:blipFill>
          <a:blip r:embed="rId1"/>
          <a:stretch/>
        </p:blipFill>
        <p:spPr>
          <a:xfrm>
            <a:off x="-1143000" y="-4154400"/>
            <a:ext cx="11430000" cy="151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2:57:53Z</dcterms:created>
  <dc:creator>УМЦ</dc:creator>
  <dc:description/>
  <dc:language>en-US</dc:language>
  <cp:lastModifiedBy>УМЦ</cp:lastModifiedBy>
  <dcterms:modified xsi:type="dcterms:W3CDTF">2003-10-29T02:58:01Z</dcterms:modified>
  <cp:revision>1</cp:revision>
  <dc:subject/>
  <dc:title>Презентация PowerPoint</dc:title>
</cp:coreProperties>
</file>