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8F34-5092-41B1-A8C3-DAE34886A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0A4C-05EB-4573-A47D-5A3D6203C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8320-67C1-4789-AD0B-8B2C3B836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4CF7-AB74-4DB5-9B94-73A6F24E2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8911-1143-4408-86BB-E0CAF2420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5124-C5A1-435E-9401-4FFBF0B9E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C379-E142-4B53-99A8-F53DEDCE7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D554-BFBE-464E-A986-0D169332B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FECC-1460-454B-8899-79A223E8D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1E9B-075C-4478-AD57-FDF3E585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F954-FF93-463C-9EE9-FE7146F4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BE8B-38C5-4F0F-83BF-7191AB0C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02239-9D56-4428-AD93-9804409176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12s" descr=""/>
          <p:cNvPicPr/>
          <p:nvPr/>
        </p:nvPicPr>
        <p:blipFill>
          <a:blip r:embed="rId1"/>
          <a:stretch/>
        </p:blipFill>
        <p:spPr>
          <a:xfrm>
            <a:off x="-1143000" y="-4160880"/>
            <a:ext cx="11430000" cy="151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03:01:44Z</dcterms:created>
  <dc:creator>УМЦ</dc:creator>
  <dc:description/>
  <dc:language>en-US</dc:language>
  <cp:lastModifiedBy>УМЦ</cp:lastModifiedBy>
  <dcterms:modified xsi:type="dcterms:W3CDTF">2003-10-29T03:01:52Z</dcterms:modified>
  <cp:revision>1</cp:revision>
  <dc:subject/>
  <dc:title>Презентация PowerPoint</dc:title>
</cp:coreProperties>
</file>