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59B4-5966-4366-A7DD-1DC12233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22C9-3084-433D-8CDB-C7548646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924-9A41-48F4-A180-901627E3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C16-DE67-40DF-BC43-69A20FA2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D06-CE76-4C4D-8F7F-245B79DF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28B-9FC3-4F90-A6A7-46272A94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665-3439-4C10-A3FD-58240F5B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FD6-3D20-47BA-96BB-1488F523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279-6C5E-41E0-BC80-A887C9DD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31C-489E-43FB-98E0-F650AB12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F44-F4BA-46D6-BBC4-F52B6FBF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202-7667-47E2-AE82-AAEFAB7F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54FF-E7DA-4150-A404-0C3DAB5B1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8s" descr=""/>
          <p:cNvPicPr/>
          <p:nvPr/>
        </p:nvPicPr>
        <p:blipFill>
          <a:blip r:embed="rId1"/>
          <a:stretch/>
        </p:blipFill>
        <p:spPr>
          <a:xfrm>
            <a:off x="-1143000" y="-4160880"/>
            <a:ext cx="11430000" cy="151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2:59:19Z</dcterms:created>
  <dc:creator>УМЦ</dc:creator>
  <dc:description/>
  <dc:language>en-US</dc:language>
  <cp:lastModifiedBy>УМЦ</cp:lastModifiedBy>
  <dcterms:modified xsi:type="dcterms:W3CDTF">2003-10-29T02:59:27Z</dcterms:modified>
  <cp:revision>1</cp:revision>
  <dc:subject/>
  <dc:title>Презентация PowerPoint</dc:title>
</cp:coreProperties>
</file>