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75A9-5408-498C-AD51-CCD809E6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176B-A863-43C2-891A-9106DDFC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E4CB-2B6E-479F-A2C6-E5F0FD68E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BDD2-32D0-4C3E-8DF5-C13B68E65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76DC-339E-4856-8873-AE161DFE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4A89-93C4-4B18-8A3C-C0F08476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66B5-DE38-4B60-A4CA-E61203CB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CF4D-41F3-4DCA-8C1C-6880B6D5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0DDF-5231-4883-9EA6-FF459C9C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8F84-EB12-47E7-80BE-B067FC91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E125-6518-474A-97D9-113B8A90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08FE-3F6E-4CF0-958B-9252AEAD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FE62-9706-44B3-A73A-39183E0E3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10s" descr=""/>
          <p:cNvPicPr/>
          <p:nvPr/>
        </p:nvPicPr>
        <p:blipFill>
          <a:blip r:embed="rId1"/>
          <a:stretch/>
        </p:blipFill>
        <p:spPr>
          <a:xfrm>
            <a:off x="-1143000" y="-4154400"/>
            <a:ext cx="11430000" cy="151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03:00:31Z</dcterms:created>
  <dc:creator>УМЦ</dc:creator>
  <dc:description/>
  <dc:language>en-US</dc:language>
  <cp:lastModifiedBy>УМЦ</cp:lastModifiedBy>
  <dcterms:modified xsi:type="dcterms:W3CDTF">2003-10-29T03:00:40Z</dcterms:modified>
  <cp:revision>1</cp:revision>
  <dc:subject/>
  <dc:title>Презентация PowerPoint</dc:title>
</cp:coreProperties>
</file>