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FC1-15F1-4F74-AC28-E5351318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581-17A1-40C1-91DF-0EA9BF2D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9AB-34B3-4F99-AEBC-72D68B44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423-8D5E-4B46-BB8C-E5DEE35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0DB-54E9-48D7-A298-7CA09A1A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1DB-F220-490E-8355-C0C42217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D02-8436-4C71-977F-41604502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3C6-FF9E-42C3-84B8-2B83FBDF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631-C2D4-46BD-BD78-1B13086E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08F-DA8C-48AF-B400-C84AE659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96E-8E20-436E-8B2C-788E4F13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438-D6D5-45CC-A04A-86FD689A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B761-7CAE-4E7F-8820-189A3C49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2s" descr=""/>
          <p:cNvPicPr/>
          <p:nvPr/>
        </p:nvPicPr>
        <p:blipFill>
          <a:blip r:embed="rId1"/>
          <a:stretch/>
        </p:blipFill>
        <p:spPr>
          <a:xfrm>
            <a:off x="-1143000" y="-4143240"/>
            <a:ext cx="11430000" cy="151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2:53:56Z</dcterms:created>
  <dc:creator>УМЦ</dc:creator>
  <dc:description/>
  <dc:language>en-US</dc:language>
  <cp:lastModifiedBy>УМЦ</cp:lastModifiedBy>
  <dcterms:modified xsi:type="dcterms:W3CDTF">2003-10-29T02:54:07Z</dcterms:modified>
  <cp:revision>1</cp:revision>
  <dc:subject/>
  <dc:title>Презентация PowerPoint</dc:title>
</cp:coreProperties>
</file>