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0023-CAB0-4CB5-86D6-B00B860F1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48A7-D94E-431E-8396-AC9F7AC56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832B-ECE3-4590-B7E3-312969BC7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9B82-1DE2-4824-9217-60755F291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E252-87BF-4C65-8A99-DEC5B6763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79ED-53B5-4171-B826-9580F0DB0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6E29-88FB-44EA-BC21-58D590EE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C1FA-88D5-4CF0-BD16-4CE0EF8A0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C830-CA0D-41F2-B4B0-A8800D8FE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67E1-838C-4185-BE24-0D683DF8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4C18-BF67-414F-AB8E-57B65E10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0E11-7A19-450D-90C7-868C2999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61981-2443-4CD8-A920-FBF4A4200D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6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6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6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6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image" Target="../media/image36.png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6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6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6.png"/><Relationship Id="rId3" Type="http://schemas.openxmlformats.org/officeDocument/2006/relationships/hyperlink" Target="mailto:common@ramon.gfu.vrn.ru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"/>
          <p:cNvSpPr/>
          <p:nvPr/>
        </p:nvSpPr>
        <p:spPr>
          <a:xfrm>
            <a:off x="3438360" y="6324480"/>
            <a:ext cx="1695600" cy="34452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7" descr="C:\Users\user1.RAMON\Desktop\Официальный сайт органов местного самоуправления Рамонского муниципального района Воронежской области - Главная_files\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409760" y="2989440"/>
            <a:ext cx="6858000" cy="83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ЮДЖЕТ ДЛЯ ГРАЖДАН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446040" cy="299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3"/>
          <a:stretch/>
        </p:blipFill>
        <p:spPr>
          <a:xfrm>
            <a:off x="8751960" y="6481800"/>
            <a:ext cx="392040" cy="37620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2"/>
          <p:cNvSpPr/>
          <p:nvPr/>
        </p:nvSpPr>
        <p:spPr>
          <a:xfrm>
            <a:off x="4314960" y="646920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2"/>
          <p:cNvSpPr/>
          <p:nvPr/>
        </p:nvSpPr>
        <p:spPr>
          <a:xfrm>
            <a:off x="2286000" y="8906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3"/>
          <p:cNvSpPr/>
          <p:nvPr/>
        </p:nvSpPr>
        <p:spPr>
          <a:xfrm>
            <a:off x="4010040" y="4195800"/>
            <a:ext cx="4938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...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обретение денег требует доблести. Сохранение денег требует рассудитель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та же денег требует искусства.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ртольд Ауэрб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478200" y="299520"/>
            <a:ext cx="1979640" cy="35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 Light"/>
              </a:rPr>
              <a:t>Проект</a:t>
            </a: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66520" y="996840"/>
            <a:ext cx="788652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НОШЕНИЕ СОБРАННЫХ НА ТЕРРИТОРИИ РАМОНСКОГО МУНИЦИПАЛЬНОГО РАЙОН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ХОДОВ В КОНСОЛИДИРОВАННЫЙ БЮДЖЕТ ВОРОНЕЖСКОЙ ОБЛАСТИ К РАСХОДНОЙ ЧАСТИ БЮДЖЕТ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МОНСКОГО МУНИЦИПАЛЬНОГО РАЙОНА ЗА 2010-2014 ГГ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3880" y="4589280"/>
            <a:ext cx="788688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8753400" y="6480000"/>
            <a:ext cx="390600" cy="37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439560" cy="298440"/>
          </a:xfrm>
          <a:prstGeom prst="rect">
            <a:avLst/>
          </a:prstGeom>
          <a:ln w="0">
            <a:noFill/>
          </a:ln>
        </p:spPr>
      </p:pic>
      <p:pic>
        <p:nvPicPr>
          <p:cNvPr id="93" name="Диаграмма 1" descr=""/>
          <p:cNvPicPr/>
          <p:nvPr/>
        </p:nvPicPr>
        <p:blipFill>
          <a:blip r:embed="rId3"/>
          <a:stretch/>
        </p:blipFill>
        <p:spPr>
          <a:xfrm>
            <a:off x="409680" y="1781280"/>
            <a:ext cx="83437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66520" y="585720"/>
            <a:ext cx="7886520" cy="3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ХАРАКТЕРИСТИКИ РАЙОННОГО БЮДЖЕТА ЗА 2014 ГОД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23880" y="4589280"/>
            <a:ext cx="788688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647640" y="1190520"/>
          <a:ext cx="8105760" cy="4753080"/>
        </p:xfrm>
        <a:graphic>
          <a:graphicData uri="http://schemas.openxmlformats.org/drawingml/2006/table">
            <a:tbl>
              <a:tblPr/>
              <a:tblGrid>
                <a:gridCol w="603360"/>
                <a:gridCol w="2485800"/>
                <a:gridCol w="1632240"/>
                <a:gridCol w="1242720"/>
                <a:gridCol w="1032120"/>
                <a:gridCol w="1109520"/>
              </a:tblGrid>
              <a:tr h="130644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воначально утвержденный план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точненный план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сполнение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 исполнения к уточненному план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47340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6 254,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7 445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6 670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8,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823680"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1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овые и неналоговые поступлен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3 714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8 105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7 453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6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824040"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2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возмездные поступлен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2 540,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9 340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9 216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50148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1 470,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0 812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6 801,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9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82404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ФИЦИТ(-)/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ФИЦИТ(+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5 215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53 366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60 130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439560" cy="298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8753400" y="6480000"/>
            <a:ext cx="39060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95080" y="149400"/>
            <a:ext cx="7886520" cy="81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ЕНИЕ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ЙОННОГО БЮДЖЕТА РАМОНСКОГО МУНИЦИПАЛЬНОГО РАЙОН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РОНЕЖСКОЙ ОБЛАСТИ ЗА 2014 ГОД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3880" y="4589280"/>
            <a:ext cx="788688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39560" cy="298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"/>
          <p:cNvPicPr/>
          <p:nvPr/>
        </p:nvPicPr>
        <p:blipFill>
          <a:blip r:embed="rId2"/>
          <a:stretch/>
        </p:blipFill>
        <p:spPr>
          <a:xfrm>
            <a:off x="8753400" y="6480000"/>
            <a:ext cx="390600" cy="37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316080" y="947880"/>
          <a:ext cx="8508960" cy="5721120"/>
        </p:xfrm>
        <a:graphic>
          <a:graphicData uri="http://schemas.openxmlformats.org/drawingml/2006/table">
            <a:tbl>
              <a:tblPr/>
              <a:tblGrid>
                <a:gridCol w="3365280"/>
                <a:gridCol w="1047960"/>
                <a:gridCol w="968040"/>
                <a:gridCol w="966960"/>
                <a:gridCol w="804960"/>
                <a:gridCol w="966600"/>
                <a:gridCol w="158760"/>
                <a:gridCol w="230400"/>
              </a:tblGrid>
              <a:tr h="96840">
                <a:tc>
                  <a:txBody>
                    <a:bodyPr lIns="22320" rIns="22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22320" rIns="22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gridSpan="2">
                  <a:txBody>
                    <a:bodyPr lIns="22320" rIns="22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2320" rIns="22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gridSpan="2">
                  <a:txBody>
                    <a:bodyPr lIns="22320" rIns="22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2320" rIns="22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137880">
                <a:tc rowSpan="2"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ХОД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rowSpan="2"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 год исполнено,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 руб.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gridSpan="3"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 го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нение 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, тыс. рубл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нено, тыс. рубл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, тыс. руб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к 20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22320" rIns="22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 доход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2 796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7 445,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gridSpan="2"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6 670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gridSpan="2"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,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22320" rIns="22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того собственные доход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9 939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8 105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7 453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3440">
                <a:tc>
                  <a:txBody>
                    <a:bodyPr lIns="22320" rIns="22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ЛОГОВЫЕ ДОХОД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8 493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6 402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gridSpan="2"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8 124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gridSpan="2"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22320" rIns="22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2 177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 467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 761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2880">
                <a:tc>
                  <a:txBody>
                    <a:bodyPr lIns="22320" rIns="22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диный налог на вмененный доход для отдельных видов деятельност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 648,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 865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gridSpan="2"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 298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gridSpan="2"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6000">
                <a:tc>
                  <a:txBody>
                    <a:bodyPr lIns="22320" rIns="22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диный сельскохозяйственный налог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7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1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0,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22320" rIns="22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лог, взимаемый в связи с применением патентной системы налогооблож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gridSpan="2"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gridSpan="2"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6000">
                <a:tc>
                  <a:txBody>
                    <a:bodyPr lIns="22320" rIns="22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сударственная пошлин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621,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768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758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3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22320" rIns="22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долженность по отмененным налогам, сборам и иным обязательным платежа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gridSpan="2"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gridSpan="2"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22320" rIns="22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НАЛОГОВЫЕ ДОХОД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 446,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 702,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 328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9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22320" rIns="22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рендная плата за земельные участ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625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701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gridSpan="2"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606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gridSpan="2"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6000">
                <a:tc>
                  <a:txBody>
                    <a:bodyPr lIns="22320" rIns="22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ходы от сдачи в аренду имуществ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3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7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7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6000">
                <a:tc>
                  <a:txBody>
                    <a:bodyPr lIns="22320" rIns="22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ходы от перечисления части  прибыли МУП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7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5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gridSpan="2"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6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gridSpan="2"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4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4200">
                <a:tc>
                  <a:txBody>
                    <a:bodyPr lIns="22320" rIns="22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латежи при пользовании природными ресурсам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4,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17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171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6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22320" rIns="22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ходы от оказания платных услуг и компенсации затрат государства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053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40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gridSpan="2"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305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gridSpan="2"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22320" rIns="22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ходы от реализации имуществ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0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0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946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6000">
                <a:tc>
                  <a:txBody>
                    <a:bodyPr lIns="22320" rIns="22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ходы от продажи земельных участков 5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929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 291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gridSpan="2"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076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gridSpan="2"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9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8240">
                <a:tc>
                  <a:txBody>
                    <a:bodyPr lIns="22320" rIns="22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ходы от продажи земельных участков 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042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22320" rIns="22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трафы, санкции, возмещение ущерб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632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095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gridSpan="2"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094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gridSpan="2"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4560">
                <a:tc>
                  <a:txBody>
                    <a:bodyPr lIns="22320" rIns="22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чие неналоговые доход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800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00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997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5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3440">
                <a:tc>
                  <a:txBody>
                    <a:bodyPr lIns="22320" rIns="22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ЕЗВОЗМЕЗДНЫЕ ПОСТУПЛ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2 856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9 340,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gridSpan="2"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9 216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gridSpan="2"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,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2880">
                <a:tc>
                  <a:txBody>
                    <a:bodyPr lIns="22320" rIns="22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тации бюджетам субъектов Российской Федерации и муниципальных образован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00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95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95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6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22320" rIns="22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бсидии  бюджетам субъектов Российской Федерации и муниципальных образований (межбюджетные субсидии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8 593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 365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gridSpan="2"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 363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gridSpan="2"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22320" rIns="22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бвенции бюджетам субъектов Российской Федерации и муниципальных образован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9 074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6 211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6 091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2,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2320" y="149040"/>
            <a:ext cx="7886880" cy="80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ДОХОДОВ РАЙОННОГО БЮДЖЕТ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2014 ГОДУ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3880" y="4589280"/>
            <a:ext cx="788688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39560" cy="298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2"/>
          <a:stretch/>
        </p:blipFill>
        <p:spPr>
          <a:xfrm>
            <a:off x="8753400" y="6480000"/>
            <a:ext cx="390600" cy="378000"/>
          </a:xfrm>
          <a:prstGeom prst="rect">
            <a:avLst/>
          </a:prstGeom>
          <a:ln w="0">
            <a:noFill/>
          </a:ln>
        </p:spPr>
      </p:pic>
      <p:pic>
        <p:nvPicPr>
          <p:cNvPr id="108" name="Схема 1" descr=""/>
          <p:cNvPicPr/>
          <p:nvPr/>
        </p:nvPicPr>
        <p:blipFill>
          <a:blip r:embed="rId3"/>
          <a:srcRect l="-31007" t="0" r="-29569" b="0"/>
          <a:stretch/>
        </p:blipFill>
        <p:spPr>
          <a:xfrm>
            <a:off x="54000" y="1236600"/>
            <a:ext cx="9410760" cy="5423040"/>
          </a:xfrm>
          <a:prstGeom prst="rect">
            <a:avLst/>
          </a:prstGeom>
          <a:ln w="0">
            <a:noFill/>
          </a:ln>
        </p:spPr>
      </p:pic>
      <p:cxnSp>
        <p:nvCxnSpPr>
          <p:cNvPr id="109" name="Прямая со стрелкой 4"/>
          <p:cNvCxnSpPr/>
          <p:nvPr/>
        </p:nvCxnSpPr>
        <p:spPr>
          <a:xfrm flipH="1" flipV="1">
            <a:off x="2095200" y="1875960"/>
            <a:ext cx="714960" cy="53424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arrow" w="med"/>
          </a:ln>
        </p:spPr>
      </p:cxnSp>
      <p:cxnSp>
        <p:nvCxnSpPr>
          <p:cNvPr id="110" name="Прямая со стрелкой 6"/>
          <p:cNvCxnSpPr/>
          <p:nvPr/>
        </p:nvCxnSpPr>
        <p:spPr>
          <a:xfrm flipV="1">
            <a:off x="5981760" y="1875600"/>
            <a:ext cx="991440" cy="130572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arrow" w="med"/>
          </a:ln>
        </p:spPr>
      </p:cxnSp>
      <p:cxnSp>
        <p:nvCxnSpPr>
          <p:cNvPr id="111" name="Прямая со стрелкой 8"/>
          <p:cNvCxnSpPr/>
          <p:nvPr/>
        </p:nvCxnSpPr>
        <p:spPr>
          <a:xfrm flipH="1" flipV="1">
            <a:off x="1304280" y="4104720"/>
            <a:ext cx="2153160" cy="81036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arrow" w="med"/>
          </a:ln>
        </p:spPr>
      </p:cxnSp>
      <p:cxnSp>
        <p:nvCxnSpPr>
          <p:cNvPr id="112" name="Прямая со стрелкой 10"/>
          <p:cNvCxnSpPr/>
          <p:nvPr/>
        </p:nvCxnSpPr>
        <p:spPr>
          <a:xfrm flipV="1">
            <a:off x="5514480" y="5276160"/>
            <a:ext cx="1915560" cy="35316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arrow" w="med"/>
          </a:ln>
        </p:spPr>
      </p:cxnSp>
      <p:sp>
        <p:nvSpPr>
          <p:cNvPr id="113" name="Text Box 6"/>
          <p:cNvSpPr/>
          <p:nvPr/>
        </p:nvSpPr>
        <p:spPr>
          <a:xfrm>
            <a:off x="1066680" y="1236600"/>
            <a:ext cx="10288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Всего доход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оугольник 12"/>
          <p:cNvSpPr/>
          <p:nvPr/>
        </p:nvSpPr>
        <p:spPr>
          <a:xfrm>
            <a:off x="6620040" y="1406520"/>
            <a:ext cx="232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Безвозмездные поступл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угольник 13"/>
          <p:cNvSpPr/>
          <p:nvPr/>
        </p:nvSpPr>
        <p:spPr>
          <a:xfrm>
            <a:off x="7429680" y="4979880"/>
            <a:ext cx="171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Неналоговые доход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Прямоугольник 14"/>
          <p:cNvSpPr/>
          <p:nvPr/>
        </p:nvSpPr>
        <p:spPr>
          <a:xfrm>
            <a:off x="160200" y="3578400"/>
            <a:ext cx="137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Налоговые доход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рямоугольник 15"/>
          <p:cNvSpPr/>
          <p:nvPr/>
        </p:nvSpPr>
        <p:spPr>
          <a:xfrm>
            <a:off x="893520" y="600696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с. рубл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14160" y="149040"/>
            <a:ext cx="7886520" cy="71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НАЛОГОВЫХ И НЕНАЛОГОВЫХ ДОХОДОВ БЮДЖЕТА РАЙОНА В 2014 ГОДУ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23880" y="4589280"/>
            <a:ext cx="788688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39560" cy="298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"/>
          <p:cNvPicPr/>
          <p:nvPr/>
        </p:nvPicPr>
        <p:blipFill>
          <a:blip r:embed="rId2"/>
          <a:stretch/>
        </p:blipFill>
        <p:spPr>
          <a:xfrm>
            <a:off x="8753400" y="6480000"/>
            <a:ext cx="390600" cy="378000"/>
          </a:xfrm>
          <a:prstGeom prst="rect">
            <a:avLst/>
          </a:prstGeom>
          <a:ln w="0">
            <a:noFill/>
          </a:ln>
        </p:spPr>
      </p:pic>
      <p:pic>
        <p:nvPicPr>
          <p:cNvPr id="122" name="Диаграмма 2" descr=""/>
          <p:cNvPicPr/>
          <p:nvPr/>
        </p:nvPicPr>
        <p:blipFill>
          <a:blip r:embed="rId3"/>
          <a:stretch/>
        </p:blipFill>
        <p:spPr>
          <a:xfrm>
            <a:off x="590400" y="1143000"/>
            <a:ext cx="8229600" cy="533700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3"/>
          <p:cNvSpPr/>
          <p:nvPr/>
        </p:nvSpPr>
        <p:spPr>
          <a:xfrm>
            <a:off x="604440" y="580716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с. рубл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33320" y="377640"/>
            <a:ext cx="788688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Г НА ДОХОДЫ ФИЗИЧЕСКИХ ЛИЦ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ообразующий источник доходной части районного бюджета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66360" y="5295960"/>
            <a:ext cx="8062920" cy="115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отчисления в районный бюджет   2010 год – 30%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год - 30%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2 год – 49%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3 год – 49%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4 год – 49%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7920" y="0"/>
            <a:ext cx="439920" cy="298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"/>
          <p:cNvPicPr/>
          <p:nvPr/>
        </p:nvPicPr>
        <p:blipFill>
          <a:blip r:embed="rId2"/>
          <a:stretch/>
        </p:blipFill>
        <p:spPr>
          <a:xfrm>
            <a:off x="8753400" y="6451560"/>
            <a:ext cx="390600" cy="378000"/>
          </a:xfrm>
          <a:prstGeom prst="rect">
            <a:avLst/>
          </a:prstGeom>
          <a:ln w="0">
            <a:noFill/>
          </a:ln>
        </p:spPr>
      </p:pic>
      <p:pic>
        <p:nvPicPr>
          <p:cNvPr id="128" name="Диаграмма 1" descr=""/>
          <p:cNvPicPr/>
          <p:nvPr/>
        </p:nvPicPr>
        <p:blipFill>
          <a:blip r:embed="rId3"/>
          <a:stretch/>
        </p:blipFill>
        <p:spPr>
          <a:xfrm>
            <a:off x="666720" y="1133640"/>
            <a:ext cx="802008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85520" y="149400"/>
            <a:ext cx="7886520" cy="52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ходы бюджета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38040" y="722160"/>
            <a:ext cx="57150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ходы государственного бюджета — это денежные средства, направленные на финансовое обеспечение задач и функций государственного и местного самоуправлен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расходы можно подразделить на следующие группы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енные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кономические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 социальные нужды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 внешнеполитическую деятельность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 содержание аппарата управлен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439560" cy="298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"/>
          <p:cNvPicPr/>
          <p:nvPr/>
        </p:nvPicPr>
        <p:blipFill>
          <a:blip r:embed="rId2"/>
          <a:stretch/>
        </p:blipFill>
        <p:spPr>
          <a:xfrm>
            <a:off x="8753400" y="6480000"/>
            <a:ext cx="390600" cy="378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"/>
          <p:cNvPicPr/>
          <p:nvPr/>
        </p:nvPicPr>
        <p:blipFill>
          <a:blip r:embed="rId3"/>
          <a:srcRect l="0" t="0" r="0" b="13668"/>
          <a:stretch/>
        </p:blipFill>
        <p:spPr>
          <a:xfrm>
            <a:off x="590400" y="590400"/>
            <a:ext cx="2438640" cy="204804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2"/>
          <p:cNvSpPr/>
          <p:nvPr/>
        </p:nvSpPr>
        <p:spPr>
          <a:xfrm>
            <a:off x="439560" y="3284640"/>
            <a:ext cx="44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Скругленный прямоугольник 3"/>
          <p:cNvSpPr/>
          <p:nvPr/>
        </p:nvSpPr>
        <p:spPr>
          <a:xfrm>
            <a:off x="743040" y="4591080"/>
            <a:ext cx="1600200" cy="723960"/>
          </a:xfrm>
          <a:prstGeom prst="roundRect">
            <a:avLst>
              <a:gd name="adj" fmla="val 16667"/>
            </a:avLst>
          </a:prstGeom>
          <a:solidFill>
            <a:srgbClr val="f9f03d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типам расходных обязательст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Скругленный прямоугольник 5"/>
          <p:cNvSpPr/>
          <p:nvPr/>
        </p:nvSpPr>
        <p:spPr>
          <a:xfrm>
            <a:off x="3029040" y="4591080"/>
            <a:ext cx="1465200" cy="771480"/>
          </a:xfrm>
          <a:prstGeom prst="roundRect">
            <a:avLst>
              <a:gd name="adj" fmla="val 16667"/>
            </a:avLst>
          </a:prstGeom>
          <a:solidFill>
            <a:srgbClr val="f9f03d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целевым и ведомственным программа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Скругленный прямоугольник 6"/>
          <p:cNvSpPr/>
          <p:nvPr/>
        </p:nvSpPr>
        <p:spPr>
          <a:xfrm>
            <a:off x="5057640" y="4572000"/>
            <a:ext cx="1609920" cy="790560"/>
          </a:xfrm>
          <a:prstGeom prst="roundRect">
            <a:avLst>
              <a:gd name="adj" fmla="val 16667"/>
            </a:avLst>
          </a:prstGeom>
          <a:solidFill>
            <a:srgbClr val="f9f03d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функциям государств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7000920" y="4572000"/>
            <a:ext cx="1752480" cy="790560"/>
          </a:xfrm>
          <a:prstGeom prst="roundRect">
            <a:avLst>
              <a:gd name="adj" fmla="val 16667"/>
            </a:avLst>
          </a:prstGeom>
          <a:solidFill>
            <a:srgbClr val="f9f03d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едомства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Скругленный прямоугольник 2"/>
          <p:cNvSpPr/>
          <p:nvPr/>
        </p:nvSpPr>
        <p:spPr>
          <a:xfrm>
            <a:off x="3029040" y="3132000"/>
            <a:ext cx="3095640" cy="465120"/>
          </a:xfrm>
          <a:prstGeom prst="roundRect">
            <a:avLst>
              <a:gd name="adj" fmla="val 16667"/>
            </a:avLst>
          </a:prstGeom>
          <a:solidFill>
            <a:srgbClr val="f9f03d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ХОД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Прямая соединительная линия 9"/>
          <p:cNvSpPr/>
          <p:nvPr/>
        </p:nvSpPr>
        <p:spPr>
          <a:xfrm>
            <a:off x="1542960" y="4114800"/>
            <a:ext cx="62200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Прямая соединительная линия 14"/>
          <p:cNvSpPr/>
          <p:nvPr/>
        </p:nvSpPr>
        <p:spPr>
          <a:xfrm>
            <a:off x="4576680" y="3597120"/>
            <a:ext cx="0" cy="5176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Прямая соединительная линия 18"/>
          <p:cNvSpPr/>
          <p:nvPr/>
        </p:nvSpPr>
        <p:spPr>
          <a:xfrm>
            <a:off x="1542960" y="4114800"/>
            <a:ext cx="0" cy="476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ая соединительная линия 20"/>
          <p:cNvSpPr/>
          <p:nvPr/>
        </p:nvSpPr>
        <p:spPr>
          <a:xfrm>
            <a:off x="3762360" y="4114800"/>
            <a:ext cx="0" cy="476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Прямая соединительная линия 22"/>
          <p:cNvSpPr/>
          <p:nvPr/>
        </p:nvSpPr>
        <p:spPr>
          <a:xfrm>
            <a:off x="5724360" y="4114800"/>
            <a:ext cx="0" cy="476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ая соединительная линия 24"/>
          <p:cNvSpPr/>
          <p:nvPr/>
        </p:nvSpPr>
        <p:spPr>
          <a:xfrm>
            <a:off x="7763040" y="4114800"/>
            <a:ext cx="0" cy="466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66520" y="55440"/>
            <a:ext cx="7886520" cy="48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щенные статьи расходов бюджета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0760" y="674640"/>
            <a:ext cx="7886520" cy="95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бюджете текущих расходов выделяются защищенные статьи, по которым гарантируется производство расходов в полном объеме. Перечень защищенных статей устанавливается ежегодно при утверждении соответствующего бюджета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39560" cy="2984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"/>
          <p:cNvPicPr/>
          <p:nvPr/>
        </p:nvPicPr>
        <p:blipFill>
          <a:blip r:embed="rId2"/>
          <a:stretch/>
        </p:blipFill>
        <p:spPr>
          <a:xfrm>
            <a:off x="8753400" y="6461280"/>
            <a:ext cx="390600" cy="3776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"/>
          <p:cNvPicPr/>
          <p:nvPr/>
        </p:nvPicPr>
        <p:blipFill>
          <a:blip r:embed="rId3"/>
          <a:srcRect l="0" t="12509" r="0" b="0"/>
          <a:stretch/>
        </p:blipFill>
        <p:spPr>
          <a:xfrm>
            <a:off x="609480" y="1781280"/>
            <a:ext cx="802980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76160" y="606600"/>
            <a:ext cx="7886880" cy="41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ХОДЫ РАЙОННОГО БЮДЖЕТА РАМОНСКОГО МУНИЦИПАЛЬНОГО РАЙОНА ВОРОНЕЖСКОЙ ОБЛАСТИ  ЗА 2014 ГОД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3880" y="4589280"/>
            <a:ext cx="788688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0" y="9360"/>
            <a:ext cx="439560" cy="2984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"/>
          <p:cNvPicPr/>
          <p:nvPr/>
        </p:nvPicPr>
        <p:blipFill>
          <a:blip r:embed="rId2"/>
          <a:stretch/>
        </p:blipFill>
        <p:spPr>
          <a:xfrm>
            <a:off x="8753400" y="6480000"/>
            <a:ext cx="390600" cy="37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5" name=""/>
          <p:cNvGraphicFramePr/>
          <p:nvPr/>
        </p:nvGraphicFramePr>
        <p:xfrm>
          <a:off x="552600" y="1206360"/>
          <a:ext cx="8267400" cy="5273640"/>
        </p:xfrm>
        <a:graphic>
          <a:graphicData uri="http://schemas.openxmlformats.org/drawingml/2006/table">
            <a:tbl>
              <a:tblPr/>
              <a:tblGrid>
                <a:gridCol w="2754000"/>
                <a:gridCol w="966960"/>
                <a:gridCol w="1144440"/>
                <a:gridCol w="1143000"/>
                <a:gridCol w="1011240"/>
                <a:gridCol w="1247760"/>
              </a:tblGrid>
              <a:tr h="210240">
                <a:tc rowSpan="2">
                  <a:txBody>
                    <a:bodyPr lIns="50400" rIns="50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rowSpan="2"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сполнено 2013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 тыс. руб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504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gridSpan="2"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4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сполнение факта 2014 года к плану 2014 года (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50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rowSpan="2"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сполнение 2014 года к исполнению 2013 года (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104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очненный  бюджет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 тыс. руб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50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нение (тыс. руб.)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504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0240">
                <a:tc>
                  <a:txBody>
                    <a:bodyPr lIns="50400" rIns="50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ТОГО РАСХО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8 518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0 81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6 80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10240">
                <a:tc>
                  <a:txBody>
                    <a:bodyPr lIns="50400" rIns="50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циально-значимые расходы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3 564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8 07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7 07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10240">
                <a:tc>
                  <a:txBody>
                    <a:bodyPr lIns="50400" rIns="50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дельный вес в расход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20120">
                <a:tc>
                  <a:txBody>
                    <a:bodyPr lIns="50400" rIns="50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 них      Заработная плата с начисления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5 61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6 53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6 51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10240">
                <a:tc>
                  <a:txBody>
                    <a:bodyPr lIns="50400" rIns="50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дельный вес в расход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,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10240">
                <a:tc>
                  <a:txBody>
                    <a:bodyPr lIns="50400" rIns="50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плата коммунальных услу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74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 05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96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10240">
                <a:tc>
                  <a:txBody>
                    <a:bodyPr lIns="50400" rIns="50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циальное обеспеч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20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 483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 598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10240">
                <a:tc>
                  <a:txBody>
                    <a:bodyPr lIns="50400" rIns="50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плата к пенс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80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238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238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10240">
                <a:tc>
                  <a:txBody>
                    <a:bodyPr lIns="50400" rIns="50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воочередные расходы, из н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2 85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1 2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8 264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10240">
                <a:tc>
                  <a:txBody>
                    <a:bodyPr lIns="50400" rIns="50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дельный вес в расход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10240">
                <a:tc>
                  <a:txBody>
                    <a:bodyPr lIns="50400" rIns="50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дукты пит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 89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 04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 02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10240">
                <a:tc>
                  <a:txBody>
                    <a:bodyPr lIns="50400" rIns="50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тельно-печное топли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556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63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63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10240">
                <a:tc>
                  <a:txBody>
                    <a:bodyPr lIns="50400" rIns="50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роительные материал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16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74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70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20120">
                <a:tc>
                  <a:txBody>
                    <a:bodyPr lIns="50400" rIns="50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кущий ремонт и техническое обслужи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 18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 223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 108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839880">
                <a:tc>
                  <a:txBody>
                    <a:bodyPr lIns="50400" rIns="50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питальные вложения в основные фонды                                                                                    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2 09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1 49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1 463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10240">
                <a:tc>
                  <a:txBody>
                    <a:bodyPr lIns="50400" rIns="50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дельный вес в расход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0400" rIns="50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0400" rIns="50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,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0400" rIns="50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0400" rIns="50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66640" y="469440"/>
            <a:ext cx="78868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НОМИЧЕСКАЯ СТРУКТУРА РАСХОДОВ РАЙОННОГО БЮДЖЕТА РАМОНСКОГО МУНИЦИПАЛЬНОГО РАЙОНА ВОРОНЕЖСКОЙ ОБЛАСТИ ЗА 2014 ГОД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3880" y="4589280"/>
            <a:ext cx="788688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39560" cy="298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"/>
          <p:cNvPicPr/>
          <p:nvPr/>
        </p:nvPicPr>
        <p:blipFill>
          <a:blip r:embed="rId2"/>
          <a:stretch/>
        </p:blipFill>
        <p:spPr>
          <a:xfrm>
            <a:off x="8753400" y="6472080"/>
            <a:ext cx="390600" cy="378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"/>
          <p:cNvPicPr/>
          <p:nvPr/>
        </p:nvPicPr>
        <p:blipFill>
          <a:blip r:embed="rId3"/>
          <a:stretch/>
        </p:blipFill>
        <p:spPr>
          <a:xfrm>
            <a:off x="439560" y="1238400"/>
            <a:ext cx="831384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33360" y="364680"/>
            <a:ext cx="8615520" cy="444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исполнении районного бюджета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монского муниципального района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ронежской област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2014 год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44600" cy="298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8753400" y="6480000"/>
            <a:ext cx="39060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95240" y="149400"/>
            <a:ext cx="7886880" cy="90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ХОДЫ РАЙОННОГО БЮДЖЕТА ПО РАЗДЕЛАМ В 2014 ГОДУ 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23880" y="4589280"/>
            <a:ext cx="788688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39560" cy="2984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"/>
          <p:cNvPicPr/>
          <p:nvPr/>
        </p:nvPicPr>
        <p:blipFill>
          <a:blip r:embed="rId2"/>
          <a:stretch/>
        </p:blipFill>
        <p:spPr>
          <a:xfrm>
            <a:off x="8753400" y="6480000"/>
            <a:ext cx="390600" cy="37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5" name=""/>
          <p:cNvGraphicFramePr/>
          <p:nvPr/>
        </p:nvGraphicFramePr>
        <p:xfrm>
          <a:off x="439560" y="1200240"/>
          <a:ext cx="8313840" cy="5283000"/>
        </p:xfrm>
        <a:graphic>
          <a:graphicData uri="http://schemas.openxmlformats.org/drawingml/2006/table">
            <a:tbl>
              <a:tblPr/>
              <a:tblGrid>
                <a:gridCol w="3265560"/>
                <a:gridCol w="324000"/>
                <a:gridCol w="907920"/>
                <a:gridCol w="987480"/>
                <a:gridCol w="938160"/>
                <a:gridCol w="936720"/>
                <a:gridCol w="954000"/>
              </a:tblGrid>
              <a:tr h="218880">
                <a:tc rowSpan="2"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rowSpan="2"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rowSpan="2"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сполнено 2013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 руб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720" marR="5472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gridSpan="2"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4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сполнение факта 2014 года к плану 2014 года (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720" marR="5472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rowSpan="2"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сполнение 2014 года к исполнению 2013 года (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1092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очненный  бюджет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 тыс. руб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720" marR="5472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нение (тыс. руб.)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3280">
                <a:tc>
                  <a:txBody>
                    <a:bodyPr lIns="54720" rIns="547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8 518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0 81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6 80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4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219240">
                <a:tc>
                  <a:txBody>
                    <a:bodyPr lIns="54720" rIns="54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 46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 57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 906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218880">
                <a:tc>
                  <a:txBody>
                    <a:bodyPr lIns="54720" rIns="54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циональная обор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436680">
                <a:tc>
                  <a:txBody>
                    <a:bodyPr lIns="54720" rIns="54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37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260280">
                <a:tc>
                  <a:txBody>
                    <a:bodyPr lIns="54720" rIns="54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1 69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 46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 08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3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219240">
                <a:tc>
                  <a:txBody>
                    <a:bodyPr lIns="54720" rIns="54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 33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127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 127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218880">
                <a:tc>
                  <a:txBody>
                    <a:bodyPr lIns="54720" rIns="54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6 993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7 544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7 479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2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219240">
                <a:tc>
                  <a:txBody>
                    <a:bodyPr lIns="54720" rIns="54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льтура, кинематограф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 204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 85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 853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219240">
                <a:tc>
                  <a:txBody>
                    <a:bodyPr lIns="54720" rIns="54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дравоохран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67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218880">
                <a:tc>
                  <a:txBody>
                    <a:bodyPr lIns="54720" rIns="54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 43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 177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 29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219240">
                <a:tc>
                  <a:txBody>
                    <a:bodyPr lIns="54720" rIns="54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 44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 03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 03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3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436320">
                <a:tc>
                  <a:txBody>
                    <a:bodyPr lIns="54720" rIns="54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294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046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046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8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852480">
                <a:tc>
                  <a:txBody>
                    <a:bodyPr lIns="54720" rIns="547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жбюджетные трансферты общего характера бюджетам субъектов Российской Федерации и муниципальных образов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 61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 749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 749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9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57160" y="72720"/>
            <a:ext cx="78868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ЕЛЬНЫЙ ВЕС РАСХОДОВ ПО РАЗДЕЛАМ РАЙОННОГО БЮДЖЕТА  ЗА 2014 ГОД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23880" y="4589280"/>
            <a:ext cx="788688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39560" cy="2984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"/>
          <p:cNvPicPr/>
          <p:nvPr/>
        </p:nvPicPr>
        <p:blipFill>
          <a:blip r:embed="rId2"/>
          <a:stretch/>
        </p:blipFill>
        <p:spPr>
          <a:xfrm>
            <a:off x="8744040" y="6480000"/>
            <a:ext cx="390600" cy="37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0" name=""/>
          <p:cNvGraphicFramePr/>
          <p:nvPr/>
        </p:nvGraphicFramePr>
        <p:xfrm>
          <a:off x="704880" y="920880"/>
          <a:ext cx="8039160" cy="5668920"/>
        </p:xfrm>
        <a:graphic>
          <a:graphicData uri="http://schemas.openxmlformats.org/drawingml/2006/table">
            <a:tbl>
              <a:tblPr/>
              <a:tblGrid>
                <a:gridCol w="3938400"/>
                <a:gridCol w="822600"/>
                <a:gridCol w="892080"/>
                <a:gridCol w="1193760"/>
                <a:gridCol w="1192320"/>
              </a:tblGrid>
              <a:tr h="350280">
                <a:tc rowSpan="2">
                  <a:txBody>
                    <a:bodyPr lIns="43560" rIns="435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сполнено 2013 год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сполнено за 2014 год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grid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клонение исполнения за 2014 год </a:t>
                      </a:r>
                      <a:br>
                        <a:rPr sz="1000"/>
                      </a:b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 исполнения за 2013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5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+, -)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75320">
                <a:tc>
                  <a:txBody>
                    <a:bodyPr lIns="43560" rIns="435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щегосударственные вопрос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 469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 906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 56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75320">
                <a:tc>
                  <a:txBody>
                    <a:bodyPr lIns="43560" rIns="435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дельный вес в расходах,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75320">
                <a:tc>
                  <a:txBody>
                    <a:bodyPr lIns="43560" rIns="435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циональная оборо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75320">
                <a:tc>
                  <a:txBody>
                    <a:bodyPr lIns="43560" rIns="435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дельный вес в расходах,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75320">
                <a:tc>
                  <a:txBody>
                    <a:bodyPr lIns="43560" rIns="435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371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5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 155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75320">
                <a:tc>
                  <a:txBody>
                    <a:bodyPr lIns="43560" rIns="435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дельный вес в расходах,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75320">
                <a:tc>
                  <a:txBody>
                    <a:bodyPr lIns="43560" rIns="435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циональная эконом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1 69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 08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1 61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75320">
                <a:tc>
                  <a:txBody>
                    <a:bodyPr lIns="43560" rIns="435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дельный вес в расходах,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75320">
                <a:tc>
                  <a:txBody>
                    <a:bodyPr lIns="43560" rIns="435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ЖК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 33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127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4 202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75320">
                <a:tc>
                  <a:txBody>
                    <a:bodyPr lIns="43560" rIns="435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дельный вес в расходах,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75320">
                <a:tc>
                  <a:txBody>
                    <a:bodyPr lIns="43560" rIns="435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раз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6 993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7 479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486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75320">
                <a:tc>
                  <a:txBody>
                    <a:bodyPr lIns="43560" rIns="435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дельный вес в расходах,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75320">
                <a:tc>
                  <a:txBody>
                    <a:bodyPr lIns="43560" rIns="435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льтура, кинематограф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 204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 85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 351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75320">
                <a:tc>
                  <a:txBody>
                    <a:bodyPr lIns="43560" rIns="435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дельный вес в расходах,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75320">
                <a:tc>
                  <a:txBody>
                    <a:bodyPr lIns="43560" rIns="435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дравоохран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67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 67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75320">
                <a:tc>
                  <a:txBody>
                    <a:bodyPr lIns="43560" rIns="435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дельный вес в расходах,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75320">
                <a:tc>
                  <a:txBody>
                    <a:bodyPr lIns="43560" rIns="435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циальная полит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 43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 292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39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75320">
                <a:tc>
                  <a:txBody>
                    <a:bodyPr lIns="43560" rIns="435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дельный вес в расходах,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75320">
                <a:tc>
                  <a:txBody>
                    <a:bodyPr lIns="43560" rIns="435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изическая культура и сп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 441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 03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6 41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75320">
                <a:tc>
                  <a:txBody>
                    <a:bodyPr lIns="43560" rIns="435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дельный вес в расходах,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75320">
                <a:tc>
                  <a:txBody>
                    <a:bodyPr lIns="43560" rIns="435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294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046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8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75320">
                <a:tc>
                  <a:txBody>
                    <a:bodyPr lIns="43560" rIns="435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дельный вес в расходах,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50280">
                <a:tc>
                  <a:txBody>
                    <a:bodyPr lIns="43560" rIns="435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жбюджетные трансферты общего характера бюджетам муниципальных образо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 61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 749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 862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75320">
                <a:tc>
                  <a:txBody>
                    <a:bodyPr lIns="43560" rIns="435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дельный вес в расходах,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75320">
                <a:tc>
                  <a:txBody>
                    <a:bodyPr lIns="43560" rIns="435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 РАСХОД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8 518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6 801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21 717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75320">
                <a:tc>
                  <a:txBody>
                    <a:bodyPr lIns="43560" rIns="435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дельный вес в расходах,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66520" y="285840"/>
            <a:ext cx="7886520" cy="73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АЛЬНАЯ СТРУКТУРА РАСХОДОВ РАЙОННОГО БЮДЖЕТА РАМОНСКОГО МУНИЦИПАЛЬНОГО РАЙОНА ВОРОНЕЖСКОЙ ОБЛАСТИ ЗА 2014 ГОД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3880" y="4589280"/>
            <a:ext cx="788688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39560" cy="298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"/>
          <p:cNvPicPr/>
          <p:nvPr/>
        </p:nvPicPr>
        <p:blipFill>
          <a:blip r:embed="rId2"/>
          <a:stretch/>
        </p:blipFill>
        <p:spPr>
          <a:xfrm>
            <a:off x="8753400" y="6480000"/>
            <a:ext cx="390600" cy="378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"/>
          <p:cNvPicPr/>
          <p:nvPr/>
        </p:nvPicPr>
        <p:blipFill>
          <a:blip r:embed="rId3"/>
          <a:stretch/>
        </p:blipFill>
        <p:spPr>
          <a:xfrm>
            <a:off x="600120" y="1190520"/>
            <a:ext cx="8067600" cy="52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18920" y="15480"/>
            <a:ext cx="7886520" cy="83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ХОДЫ РАЙОННОГО БЮДЖЕТА В РАСЧЕТЕ НА ДУШУ НАСЕЛЕНИЯ ЗА 2014 ГОД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0" y="9360"/>
            <a:ext cx="439560" cy="2984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"/>
          <p:cNvPicPr/>
          <p:nvPr/>
        </p:nvPicPr>
        <p:blipFill>
          <a:blip r:embed="rId2"/>
          <a:stretch/>
        </p:blipFill>
        <p:spPr>
          <a:xfrm>
            <a:off x="8753400" y="6472080"/>
            <a:ext cx="390600" cy="378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314280" y="1228680"/>
            <a:ext cx="1809720" cy="8492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1676520" y="1228680"/>
            <a:ext cx="1809720" cy="849240"/>
          </a:xfrm>
          <a:prstGeom prst="rect">
            <a:avLst/>
          </a:prstGeom>
          <a:ln w="0">
            <a:noFill/>
          </a:ln>
        </p:spPr>
      </p:pic>
      <p:pic>
        <p:nvPicPr>
          <p:cNvPr id="181" name="Скругленный прямоугольник 9" descr=""/>
          <p:cNvPicPr/>
          <p:nvPr/>
        </p:nvPicPr>
        <p:blipFill>
          <a:blip r:embed="rId5"/>
          <a:stretch/>
        </p:blipFill>
        <p:spPr>
          <a:xfrm>
            <a:off x="3554280" y="1279440"/>
            <a:ext cx="5443560" cy="8049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"/>
          <p:cNvPicPr/>
          <p:nvPr/>
        </p:nvPicPr>
        <p:blipFill>
          <a:blip r:embed="rId6"/>
          <a:stretch/>
        </p:blipFill>
        <p:spPr>
          <a:xfrm>
            <a:off x="324000" y="2238480"/>
            <a:ext cx="1800000" cy="7048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"/>
          <p:cNvPicPr/>
          <p:nvPr/>
        </p:nvPicPr>
        <p:blipFill>
          <a:blip r:embed="rId7"/>
          <a:stretch/>
        </p:blipFill>
        <p:spPr>
          <a:xfrm>
            <a:off x="1719360" y="2211480"/>
            <a:ext cx="1809720" cy="731880"/>
          </a:xfrm>
          <a:prstGeom prst="rect">
            <a:avLst/>
          </a:prstGeom>
          <a:ln w="0">
            <a:noFill/>
          </a:ln>
        </p:spPr>
      </p:pic>
      <p:pic>
        <p:nvPicPr>
          <p:cNvPr id="184" name="Скругленный прямоугольник 12" descr=""/>
          <p:cNvPicPr/>
          <p:nvPr/>
        </p:nvPicPr>
        <p:blipFill>
          <a:blip r:embed="rId8"/>
          <a:stretch/>
        </p:blipFill>
        <p:spPr>
          <a:xfrm>
            <a:off x="3554280" y="2152800"/>
            <a:ext cx="5443560" cy="961920"/>
          </a:xfrm>
          <a:prstGeom prst="rect">
            <a:avLst/>
          </a:prstGeom>
          <a:ln w="0">
            <a:noFill/>
          </a:ln>
        </p:spPr>
      </p:pic>
      <p:sp>
        <p:nvSpPr>
          <p:cNvPr id="185" name="Овал 13"/>
          <p:cNvSpPr/>
          <p:nvPr/>
        </p:nvSpPr>
        <p:spPr>
          <a:xfrm>
            <a:off x="324000" y="3086280"/>
            <a:ext cx="1714320" cy="62856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89 580,5 рубля в год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Овал 14"/>
          <p:cNvSpPr/>
          <p:nvPr/>
        </p:nvSpPr>
        <p:spPr>
          <a:xfrm>
            <a:off x="1719360" y="3095640"/>
            <a:ext cx="1714320" cy="64764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7 465,0 рубля в месяц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Скругленный прямоугольник 15" descr=""/>
          <p:cNvPicPr/>
          <p:nvPr/>
        </p:nvPicPr>
        <p:blipFill>
          <a:blip r:embed="rId9"/>
          <a:stretch/>
        </p:blipFill>
        <p:spPr>
          <a:xfrm>
            <a:off x="3554280" y="3071880"/>
            <a:ext cx="5443560" cy="957240"/>
          </a:xfrm>
          <a:prstGeom prst="rect">
            <a:avLst/>
          </a:prstGeom>
          <a:ln w="0">
            <a:noFill/>
          </a:ln>
        </p:spPr>
      </p:pic>
      <p:sp>
        <p:nvSpPr>
          <p:cNvPr id="188" name="Овал 16"/>
          <p:cNvSpPr/>
          <p:nvPr/>
        </p:nvSpPr>
        <p:spPr>
          <a:xfrm>
            <a:off x="324000" y="3976560"/>
            <a:ext cx="1609560" cy="65736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104 282,6 рубля в год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Овал 17"/>
          <p:cNvSpPr/>
          <p:nvPr/>
        </p:nvSpPr>
        <p:spPr>
          <a:xfrm>
            <a:off x="1676520" y="3986280"/>
            <a:ext cx="1714320" cy="64764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8 690,2 рубля в месяц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10" descr=""/>
          <p:cNvPicPr/>
          <p:nvPr/>
        </p:nvPicPr>
        <p:blipFill>
          <a:blip r:embed="rId10"/>
          <a:stretch/>
        </p:blipFill>
        <p:spPr>
          <a:xfrm>
            <a:off x="3600360" y="3986280"/>
            <a:ext cx="5391360" cy="852480"/>
          </a:xfrm>
          <a:prstGeom prst="rect">
            <a:avLst/>
          </a:prstGeom>
          <a:ln w="0">
            <a:noFill/>
          </a:ln>
        </p:spPr>
      </p:pic>
      <p:sp>
        <p:nvSpPr>
          <p:cNvPr id="191" name="Овал 19"/>
          <p:cNvSpPr/>
          <p:nvPr/>
        </p:nvSpPr>
        <p:spPr>
          <a:xfrm>
            <a:off x="271440" y="5048280"/>
            <a:ext cx="1714680" cy="60012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898,6 рубля в год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Овал 20"/>
          <p:cNvSpPr/>
          <p:nvPr/>
        </p:nvSpPr>
        <p:spPr>
          <a:xfrm>
            <a:off x="1724040" y="5048280"/>
            <a:ext cx="1714320" cy="60012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74,9 рубля в месяц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Скругленный прямоугольник 21" descr=""/>
          <p:cNvPicPr/>
          <p:nvPr/>
        </p:nvPicPr>
        <p:blipFill>
          <a:blip r:embed="rId11"/>
          <a:stretch/>
        </p:blipFill>
        <p:spPr>
          <a:xfrm>
            <a:off x="3554280" y="4937040"/>
            <a:ext cx="5443560" cy="9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66520" y="928800"/>
            <a:ext cx="78865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МУНИЦИПАЛЬНЫХ ПРОГРАММ РАЙОННОГО БЮДЖЕТА РАМОНСКОГО МУНИЦИПАЛЬНОГО РАЙОНА ВОРОНЕЖСКОЙ ОБЛАСТИ ЗА 2014 ГОД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23880" y="4589280"/>
            <a:ext cx="788688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39560" cy="298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" descr=""/>
          <p:cNvPicPr/>
          <p:nvPr/>
        </p:nvPicPr>
        <p:blipFill>
          <a:blip r:embed="rId2"/>
          <a:stretch/>
        </p:blipFill>
        <p:spPr>
          <a:xfrm>
            <a:off x="8753400" y="6480000"/>
            <a:ext cx="390600" cy="37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8" name=""/>
          <p:cNvGraphicFramePr/>
          <p:nvPr/>
        </p:nvGraphicFramePr>
        <p:xfrm>
          <a:off x="657360" y="1366920"/>
          <a:ext cx="8096040" cy="5097240"/>
        </p:xfrm>
        <a:graphic>
          <a:graphicData uri="http://schemas.openxmlformats.org/drawingml/2006/table">
            <a:tbl>
              <a:tblPr/>
              <a:tblGrid>
                <a:gridCol w="6935760"/>
                <a:gridCol w="1160280"/>
              </a:tblGrid>
              <a:tr h="6019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нено на 01.01.2015г. (тыс.руб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89208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Рамонского муниципального района Воронежской области «Управление муниципальными финансами, создание условий для эффективного и ответственного управления муниципальными финансами, повышение устойчивости бюджетов поселений Рамонского муниципального района Воронежской области»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131,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0336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Рамонского муниципального района Воронежской области «Формирование и эффективное управление муниципальной собственностью Рамонского муниципального района Воронежской области»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763,3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8572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Рамонского муниципального района Воронежской области «Развитие сельского хозяйства на территории Рамонского муниципального района Воронежской области»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154,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3496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Рамонского муниципального района Воронежской области «Развитие образования Рамонского муниципального района Воронежской области»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4 455,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3676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Рамонского муниципального района Воронежской области «Развитие культуры и туризма в Рамонском муниципальном районе Воронежской области»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 096,6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3496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Рамонского муниципального района Воронежской области «Муниципальное управление Рамонского муниципального района Воронежской области»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 739,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0192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Рамонского муниципального района Воронежской области «Создание благоприятных условий для населения Рамонского муниципального района Воронежской области»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 331,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05920">
                <a:tc>
                  <a:txBody>
                    <a:bodyPr lIns="7560" rIns="7560" tIns="75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 ПО РАЙОННОМУ БЮДЖЕТ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5 671,5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52280" y="624960"/>
            <a:ext cx="7886520" cy="74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РАСХОДОВ НА РЕАЛИЗАЦИЮ МУНИЦИПАЛЬНЫХ ПРОГРАММ РАМОНСКОГО МУНИЦИПАЛЬНОГО РАЙОНА ВОРОНЕЖСКОЙ ОБЛАСТИ ЗА 2014 ГОД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23880" y="4589280"/>
            <a:ext cx="788688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-30240" y="-19080"/>
            <a:ext cx="439920" cy="2984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" descr=""/>
          <p:cNvPicPr/>
          <p:nvPr/>
        </p:nvPicPr>
        <p:blipFill>
          <a:blip r:embed="rId2"/>
          <a:stretch/>
        </p:blipFill>
        <p:spPr>
          <a:xfrm>
            <a:off x="8744040" y="6480000"/>
            <a:ext cx="390600" cy="378000"/>
          </a:xfrm>
          <a:prstGeom prst="rect">
            <a:avLst/>
          </a:prstGeom>
          <a:ln w="0">
            <a:noFill/>
          </a:ln>
        </p:spPr>
      </p:pic>
      <p:pic>
        <p:nvPicPr>
          <p:cNvPr id="203" name="Диаграмма 5" descr=""/>
          <p:cNvPicPr/>
          <p:nvPr/>
        </p:nvPicPr>
        <p:blipFill>
          <a:blip r:embed="rId3"/>
          <a:stretch/>
        </p:blipFill>
        <p:spPr>
          <a:xfrm>
            <a:off x="654120" y="1625760"/>
            <a:ext cx="81406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56800" y="624960"/>
            <a:ext cx="8163000" cy="4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МЕЖБЮДЖЕТНЫХ ТРАНСФЕРТОВ ПОСЕЛЕНИЯМ РАМОНСКОГО МУНИЦИПАЛЬНОГО РАЙОНА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РОНЕЖСКОЙ ОБЛАСТИ   ЗА 2013 – 2014 ГОДЫ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23880" y="4589280"/>
            <a:ext cx="788688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39560" cy="298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" descr=""/>
          <p:cNvPicPr/>
          <p:nvPr/>
        </p:nvPicPr>
        <p:blipFill>
          <a:blip r:embed="rId2"/>
          <a:stretch/>
        </p:blipFill>
        <p:spPr>
          <a:xfrm>
            <a:off x="8753400" y="6470640"/>
            <a:ext cx="390600" cy="378000"/>
          </a:xfrm>
          <a:prstGeom prst="rect">
            <a:avLst/>
          </a:prstGeom>
          <a:ln w="0">
            <a:noFill/>
          </a:ln>
        </p:spPr>
      </p:pic>
      <p:pic>
        <p:nvPicPr>
          <p:cNvPr id="208" name="Таблица 3" descr=""/>
          <p:cNvPicPr/>
          <p:nvPr/>
        </p:nvPicPr>
        <p:blipFill>
          <a:blip r:embed="rId3"/>
          <a:stretch/>
        </p:blipFill>
        <p:spPr>
          <a:xfrm>
            <a:off x="628560" y="1322280"/>
            <a:ext cx="8124840" cy="48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66520" y="130320"/>
            <a:ext cx="7886520" cy="82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АКТНАЯ ИНФОРМАЦИЯ ДЛЯ ГРАЖДАН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47520" y="130320"/>
            <a:ext cx="439920" cy="2984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"/>
          <p:cNvPicPr/>
          <p:nvPr/>
        </p:nvPicPr>
        <p:blipFill>
          <a:blip r:embed="rId2"/>
          <a:stretch/>
        </p:blipFill>
        <p:spPr>
          <a:xfrm>
            <a:off x="8753400" y="6480000"/>
            <a:ext cx="390600" cy="378000"/>
          </a:xfrm>
          <a:prstGeom prst="rect">
            <a:avLst/>
          </a:prstGeom>
          <a:ln w="0">
            <a:noFill/>
          </a:ln>
        </p:spPr>
      </p:pic>
      <p:sp>
        <p:nvSpPr>
          <p:cNvPr id="212" name="Прямоугольник 3"/>
          <p:cNvSpPr/>
          <p:nvPr/>
        </p:nvSpPr>
        <p:spPr>
          <a:xfrm>
            <a:off x="923760" y="1038240"/>
            <a:ext cx="7391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шюра подготовлена отделом по финансам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ции Рамонского муниципального район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ронежской области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. 50 лет ВЛКСМ, 5, р.п. Рамонь, Воронежская область, 39602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актные телефоны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(47340) 2-18-50; 8 (47340) 2-17-49; 8 (47340) 2-11-05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с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8 (47340) 2-17-02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рес электронной почт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Е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1800" spc="-1" strike="noStrike" u="sng">
                <a:solidFill>
                  <a:srgbClr val="0563c1"/>
                </a:solidFill>
                <a:uFillTx/>
                <a:latin typeface="Times New Roman"/>
                <a:ea typeface="Times New Roman"/>
                <a:hlinkClick r:id="rId3"/>
              </a:rPr>
              <a:t>common@ramon.gfu.vrn.ru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ик работы отдела по финанса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понедельник-пятниц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8-00 до 17-0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ик личного приема руководителя отдела по финанса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ник с 9:00 до 16:00 час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09520" y="294840"/>
            <a:ext cx="73915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«Бюджет для граждан?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44600" cy="298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8753400" y="6480000"/>
            <a:ext cx="390600" cy="37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3"/>
          <a:srcRect l="22479" t="1665" r="18904" b="15313"/>
          <a:stretch/>
        </p:blipFill>
        <p:spPr>
          <a:xfrm>
            <a:off x="5162400" y="1181160"/>
            <a:ext cx="3591000" cy="3214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875880" y="932040"/>
            <a:ext cx="4095720" cy="35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открытости и прозрачности бюджета для общества – одна из главных задач администрации Рамонского муниципального района Воронежской области.  Информационный ресурс «Бюджет для граждан» стал очередным шагом в этом направлен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  – это сложный и объемный документ; непростой для восприятия даже профессиональных экономистов и финансистов. Поэтому мы представляем бюджет администрации муниципального района и годовой отчёт об исполнении бюджета в непривычной для нас, но доступном для граждан формате, чтобы непосвящённый в бюджетный процесс человек смог в нём легко ориентироватьс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5"/>
          <p:cNvSpPr/>
          <p:nvPr/>
        </p:nvSpPr>
        <p:spPr>
          <a:xfrm>
            <a:off x="857160" y="4459320"/>
            <a:ext cx="78962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ути, бюджет для граждан - это доступная для общего понимания версия главного финансового документа администрации Рамонского муниципального района Воронежской области на очередной финансовый год и плановый двухлетний период и Отчета о его исполнении за год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намерены совершенствовать работу по открытости бюджета, чтобы повысить эффективность распределения средств с учётом приоритетных потребностей населен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77920" y="732960"/>
            <a:ext cx="9080640" cy="66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К РФ Статья 36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прозрачности (открытости) означает: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7360" y="807840"/>
            <a:ext cx="7886520" cy="51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80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0080" indent="-28008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тельное опубликование в средствах массовой информации утвержденных бюджетов и отчетов об их исполнении, полноту представления информации о ходе исполнения бюджетов, а также доступность иных сведений о бюджетах по решению законодательных (представительных) органов государственной власти, представительных органов муниципальных образований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0080" indent="-28008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тельную открытость для общества и средств массовой информации проектов бюджетов, внесенных в законодательные (представительные) органы государственной власти (представительные органы муниципальных образований), процедур рассмотрения и принятия решений по проектам бюджетов, в том числе по вопросам, вызывающим разногласия либо внутри законодательного (представительного) органа государственной власти (представительного органа муниципального образования), либо между законодательным (представительным) органом государственной власти (представительным органом муниципального образования) и исполнительным органом государственной власти (местной администрацией)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0080" indent="-28008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доступа к информации, размещенной в информационно-телекоммуникационной сети "Интернет" на едином портале бюджетной системы Российской Федерации; (абзац введен Федеральным законом от 07.05.2013 N 104-ФЗ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0080" indent="-28008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ьность и (или) преемственность бюджетной классификации Российской Федерации, а также обеспечение сопоставимости показателей бюджета отчетного, текущего и очередного финансового года (очередного финансового года и планового периода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0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0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ретные статьи могут утверждаться только в составе федерального бюджет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44600" cy="298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8753400" y="6480000"/>
            <a:ext cx="39060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49400"/>
            <a:ext cx="691992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, виды бюджетов: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4600" y="695160"/>
            <a:ext cx="518472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́т (от старонормандского bougette — кошелёк, сумка, кожаный мешок, мешок с деньгами) — схема доходов и расходов определённого лица (семьи, бизнеса, организации, государства и т. д.), устанавливаемая на определённый период времени, обычно на один год. Бюджет — это важнейшая концепция как в микроэкономике, так и в макроэкономике (государственный бюджет). Изучением бюджета занимается наука финанс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ный (муниципальный) бюджет — форма образования и расходования денежных средств, предназначенных для финансового обеспечения задач и функций местного самоуправления. Местный бюджет относится к категории «публичные финансы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44600" cy="298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8734320" y="6480000"/>
            <a:ext cx="390600" cy="37800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3"/>
          <p:cNvSpPr/>
          <p:nvPr/>
        </p:nvSpPr>
        <p:spPr>
          <a:xfrm>
            <a:off x="511200" y="3532320"/>
            <a:ext cx="822312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олидированный бюджет — это свод бюджетов всех уровней на соответствующей территории, используемый при прогнозировании, расчетах, анализе. Консолидированный бюджет РФ — это свод федерального бюджета и консолидированных бюджетов субъектов РФ без учета бюджетов государственных и территориальных внебюджетных фондов ГВБФ (ст. 6 БК РФ) .       Консолидированный бюджет субъекта РФ — представляют собой свод регионального бюджета, местных бюджетов территорий, административно входящих в субъект Федерации без бюджета государственного территориального фонда обязательного медицинского страхования ТФОМ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олидированный (сводный) бюджет района выполняет функцию объединений бюджетных показателей территории. В нём находят отражение результаты разработки и реализации бюджетно-финансовой политики в районе; условия сбалансированности доходов и расходов в целом по муниципальному району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8" descr=""/>
          <p:cNvPicPr/>
          <p:nvPr/>
        </p:nvPicPr>
        <p:blipFill>
          <a:blip r:embed="rId3"/>
          <a:stretch/>
        </p:blipFill>
        <p:spPr>
          <a:xfrm>
            <a:off x="6105600" y="990720"/>
            <a:ext cx="2047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14320" y="507600"/>
            <a:ext cx="7886880" cy="204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ходы бюджета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3880" y="1008000"/>
            <a:ext cx="788688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ходы бюджета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денежные средства, поступающие в безвозмездном и безвозвратном порядке в соответствии с действующей классификацией и существующим законодательством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8753400" y="6499080"/>
            <a:ext cx="390600" cy="37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444600" cy="298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"/>
          <p:cNvPicPr/>
          <p:nvPr/>
        </p:nvPicPr>
        <p:blipFill>
          <a:blip r:embed="rId3"/>
          <a:srcRect l="0" t="18341" r="0" b="21548"/>
          <a:stretch/>
        </p:blipFill>
        <p:spPr>
          <a:xfrm>
            <a:off x="523800" y="1876320"/>
            <a:ext cx="814392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66520" y="149040"/>
            <a:ext cx="7886520" cy="564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е, региональные и местные налоги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9560" y="960120"/>
            <a:ext cx="315144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́г — обязательный, индивидуально безвозмездный платёж, принудительно взимаемый органами государственной власти различных уровней с организаций и физических лиц в целях финансового обеспечения деятельности государства и (или) муниципальных образовани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439560" cy="298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2"/>
          <a:stretch/>
        </p:blipFill>
        <p:spPr>
          <a:xfrm>
            <a:off x="8753400" y="6480000"/>
            <a:ext cx="390600" cy="37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3"/>
          <a:stretch/>
        </p:blipFill>
        <p:spPr>
          <a:xfrm>
            <a:off x="1150920" y="3813120"/>
            <a:ext cx="1692360" cy="26668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4"/>
          <a:srcRect l="12836" t="45387" r="14059" b="0"/>
          <a:stretch/>
        </p:blipFill>
        <p:spPr>
          <a:xfrm>
            <a:off x="3857760" y="685800"/>
            <a:ext cx="4819680" cy="59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66520" y="910800"/>
            <a:ext cx="788652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Ы ЗАЧИСЛЕНИЙ НАЛОГОВ ПО УРОВНЯМ БЮДЖЕТА НА ТЕРРИТОРИИ РАМОНСКОГО МУНИЦИПАЛЬНОГО РАЙОНА ВОРОНЕЖСКОЙ ОБЛАСТ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14 ГОДУ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0" y="9360"/>
            <a:ext cx="439560" cy="298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8753400" y="6480000"/>
            <a:ext cx="390600" cy="37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" name=""/>
          <p:cNvGraphicFramePr/>
          <p:nvPr/>
        </p:nvGraphicFramePr>
        <p:xfrm>
          <a:off x="542880" y="1457280"/>
          <a:ext cx="8077320" cy="5021280"/>
        </p:xfrm>
        <a:graphic>
          <a:graphicData uri="http://schemas.openxmlformats.org/drawingml/2006/table">
            <a:tbl>
              <a:tblPr/>
              <a:tblGrid>
                <a:gridCol w="3774960"/>
                <a:gridCol w="2310120"/>
                <a:gridCol w="1992240"/>
              </a:tblGrid>
              <a:tr h="103032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логи и сборы, установленные законодательств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юджет муниципального рай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юдже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селен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619200">
                <a:tc>
                  <a:txBody>
                    <a:bodyPr lIns="58680" rIns="58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566640">
                <a:tc>
                  <a:txBody>
                    <a:bodyPr lIns="58680" rIns="58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кцизы на нефтепродук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588960">
                <a:tc>
                  <a:txBody>
                    <a:bodyPr lIns="58680" rIns="58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диный налог на вмененный до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576360">
                <a:tc>
                  <a:txBody>
                    <a:bodyPr lIns="58680" rIns="58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диный сельскохозяйственный до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560160">
                <a:tc>
                  <a:txBody>
                    <a:bodyPr lIns="58680" rIns="58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сударственная пошлина (по видам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546120">
                <a:tc>
                  <a:txBody>
                    <a:bodyPr lIns="58680" rIns="58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емельный нал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533520">
                <a:tc>
                  <a:txBody>
                    <a:bodyPr lIns="58680" rIns="58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лог на имущество физических ли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66520" y="766800"/>
            <a:ext cx="7886520" cy="68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ЛЕНИЕ ДОХОДОВ СОБИРАЕМЫХ НА ТЕРРИТОРИИ РАМОНСКОГО МУНИЦИПАЛЬНОГО РАЙОНА В КОНСОЛИДИРОВАННЫЙ БЮДЖЕТ ВОРОНЕЖСКОЙ ОБЛАСТИ ЗА 2010 – 2014 ГОДЫ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23880" y="4589280"/>
            <a:ext cx="788688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8753400" y="6461280"/>
            <a:ext cx="390600" cy="377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439560" cy="298440"/>
          </a:xfrm>
          <a:prstGeom prst="rect">
            <a:avLst/>
          </a:prstGeom>
          <a:ln w="0">
            <a:noFill/>
          </a:ln>
        </p:spPr>
      </p:pic>
      <p:pic>
        <p:nvPicPr>
          <p:cNvPr id="88" name="Диаграмма 1" descr=""/>
          <p:cNvPicPr/>
          <p:nvPr/>
        </p:nvPicPr>
        <p:blipFill>
          <a:blip r:embed="rId3"/>
          <a:stretch/>
        </p:blipFill>
        <p:spPr>
          <a:xfrm>
            <a:off x="439560" y="1727280"/>
            <a:ext cx="831384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6T07:43:27Z</dcterms:created>
  <dc:creator>Инна</dc:creator>
  <dc:description/>
  <dc:language>en-US</dc:language>
  <cp:lastModifiedBy>user1</cp:lastModifiedBy>
  <cp:lastPrinted>2015-04-02T07:09:43Z</cp:lastPrinted>
  <dcterms:modified xsi:type="dcterms:W3CDTF">2015-04-09T11:22:31Z</dcterms:modified>
  <cp:revision>144</cp:revision>
  <dc:subject/>
  <dc:title>Презентация PowerPoint</dc:title>
</cp:coreProperties>
</file>